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7E-1ECC-48A3-8150-2C1EB8B4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132-FF40-4790-9A5F-7893F21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983-4331-4CAB-B3C7-D180E615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6DC-A514-477B-A499-B2AAEDA7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5B1-CB9F-417A-BCB3-E39C48D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D7A-9524-487D-9A7A-A10E9437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D24-D07D-4168-97D6-235F243E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229-03E7-497E-B10B-FA5EDD43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077-D04F-4C45-A94B-21E2ABAE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F84-BC63-41EE-81D8-0DBED57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D4B-78DE-4B1C-9682-67403AC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143-B0EE-49C8-A55C-887AF9A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F00040DC-6D15-45DD-9E7B-EE1F2F33344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year project (March 2006-2009) funded by the European Commission (DG-INFSO), Sixth  Framework Programme, Contract #026642 EX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at 3.9 million 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llaboration: 19 radioastronomy institutes and research and education networks (NRENs) representing 14 countries on 6 conti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 to the central correlator in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4D0-DE89-44AD-ABCD-AD419A9A9F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00" y="841320"/>
            <a:ext cx="8604000" cy="517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36B-B5AA-4126-A608-2EBFC65B02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-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recording data and shipping disks to the central process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data over networks and correlate i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weeks from the observation &amp; correl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problems in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transient events and schedule near-immediate follow-on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830-F076-4FB9-AA90-69E94CD288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raditional VLBI vs. 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1303200"/>
            <a:ext cx="868356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8F9-1BF1-4C2F-A88F-4DC2B73673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 Countries, 6 Conti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and Education Networks (NR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CE2-80D1-46D1-A15E-9E4484806E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icipating Telescopes and Network Paths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019920"/>
            <a:ext cx="822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Logical network path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D31-092A-42A5-A60A-A8E2479287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092240"/>
            <a:ext cx="754380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E1F-AD62-4740-B45C-39ED259921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#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FF-70C9-4012-8F94-04BA6435B2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technique: Very Long Baseline Interfe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 telescope looks at an object in the sky and collects data to create an “image” of th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elescopes can view the same object simultaneously.  The distance between the telescopes is the baseline.  The baseline can be compared to building a single telescope with the diameter of this distance (sort o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olution increases with additional telescopes and longer bas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nsitivity of the image increases with the data collection rate at the tele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entral processor decodes, aligns and correlates the data for every possible telescope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images of cosmic radio sources with up to a hundred times better resolution than images from the best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C4D-82A2-4E59-A8CB-F0AD4CA91A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erture Synthesis Imag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1219320"/>
            <a:ext cx="7315200" cy="3657600"/>
            <a:chOff x="838080" y="1219320"/>
            <a:chExt cx="7315200" cy="3657600"/>
          </a:xfrm>
        </p:grpSpPr>
        <p:grpSp>
          <p:nvGrpSpPr>
            <p:cNvPr id="97" name=""/>
            <p:cNvGrpSpPr/>
            <p:nvPr/>
          </p:nvGrpSpPr>
          <p:grpSpPr>
            <a:xfrm>
              <a:off x="838080" y="1219320"/>
              <a:ext cx="7315200" cy="3657600"/>
              <a:chOff x="838080" y="1219320"/>
              <a:chExt cx="7315200" cy="365760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80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0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56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4800600" y="4479840"/>
              <a:ext cx="334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mage Credits: Avruch and Pogreben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chnique that uses a number of telescopes to simulate a much larger one.   A larger dish, real or simulated, improves image clarity and brightness.  This requires coordination between the telescopes and a supercomputer.  Consider the examples displaying aperture size, aperture distribution and image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The science of e-VL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CCC-FEE8-47B3-BCAB-4216A6E4FB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 Makes a Virtual Telesco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4840" y="1257480"/>
            <a:ext cx="8734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657-D891-4643-968A-C43C1DC995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the correlator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, purpose-designed and purpose-buil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imaging simulates a very large telescope by measuring Fourier components of sky brightness on each baseli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s, aligns and correlates the data for every possible telescope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N MkIV data processor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silicon, 1024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is 1 Gb/s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100 T-operation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23B-F267-4A41-91B8-F25A7FBB1B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47:35Z</dcterms:modified>
  <cp:revision>30</cp:revision>
  <dc:subject/>
  <dc:title>Slide 1</dc:title>
</cp:coreProperties>
</file>